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41E-487E-407C-A93A-7F9AA984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926-A2C2-4D61-8819-E99096DE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3E3-61B5-4081-A5F2-9AC5C219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903-EB25-47A8-92EB-9A2CFB66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2A67-8FA9-4CF9-A402-B1872737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E99A-FAEB-4614-A05D-668F77B4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FC63-DA93-4948-872F-72F4E3C2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F473-D65D-4F0E-8798-3F6E738B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190F-2BEB-4833-A876-53EDEF76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DC22-E53F-48E7-82DB-8CA478FE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C871-06D9-4DBB-B9CB-05A232F2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C5C-21D3-447A-A98E-9BB63215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1F54-CC17-4FF5-B164-69FB324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261C-A9B1-4457-BBF7-63B6D1EB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85E6-70B7-4CCD-B856-E739C758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A35F-0252-4445-982E-2100D30D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680D-79CE-42C6-815F-8E637B9D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653-C070-44D3-B4C6-D1765B51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A1D-9045-49C7-820A-25FB5825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907-7856-4E02-BAB7-70B3684F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672-1324-4088-9FAD-CEA47010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472-7C8F-4674-87F2-FCA1B591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D52-FA92-4181-B78D-98BB89D4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3BF-21FA-46C4-88B5-F1E53944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3F20-39AE-4E7C-932F-746861F90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A639-7AA2-4F18-8E60-11A057955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Ahn, Olivia Edwards, and Jason 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age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e4e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ed"/>
                </a:solidFill>
                <a:latin typeface="Times New Roman"/>
              </a:rPr>
              <a:t>First Stage is the sensation of fa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ed"/>
                </a:solidFill>
                <a:latin typeface="Times New Roman"/>
              </a:rPr>
              <a:t>(Also referred as hypnologic st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e4e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ed"/>
                </a:solidFill>
                <a:latin typeface="Times New Roman"/>
              </a:rPr>
              <a:t>It is the stage where a person is be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nologic</a:t>
            </a:r>
            <a:r>
              <a:rPr b="0" lang="en-US" sz="3200" spc="-1" strike="noStrike">
                <a:solidFill>
                  <a:srgbClr val="4e4eed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le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iodic, natural, reversible,loss of consciousness--as distinct from unconsciousness resulting from a coma, general anesthesia, or hibern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lluc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alse sensory experiences, such as seeing something in the absence of an external visual stimul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pha wa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relatively slow brain waves of a relaxed, awake st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Inform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of hallucination (experience of hallucin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ling of falling or floating (hypnolog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s only for a few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is basically formed by alpha waves and theta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can be easily awaken in this s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s stay closed and some feels that they have received no sleep at a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384800" y="304920"/>
            <a:ext cx="4759200" cy="2792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6252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s of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4016520" cy="305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28600" y="3352680"/>
            <a:ext cx="28195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http://d21c.com/DragonsDreams/gar/Sleep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bio.davidson.edu/Courses/genomics/2005/Kiley/images/waves2.jp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ottsdalecc.edu/ricker/psy101/readings/Section_1/images/brain_waves.jpe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ubliminaltherapy.com/images/brain_waves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dreamviews.com/sleepstages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library.thinkquest.org/CR0215623/stages_of_sleep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ce  Ahn</cp:lastModifiedBy>
  <dcterms:modified xsi:type="dcterms:W3CDTF">2008-10-06T03:08:11Z</dcterms:modified>
  <cp:revision>1</cp:revision>
  <dc:subject/>
  <dc:title>Stage 1</dc:title>
</cp:coreProperties>
</file>